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AC4-5F36-44E2-9B6C-71A99683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BAB-296E-49A3-8026-69FC16ED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AA3-A17D-422D-8875-F5C9C618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7A1-D0CE-406B-8C06-6D371135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77B-F944-469F-9DFD-4E0B913A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109-C5F5-49DF-B3CE-BA33B04A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B63-A184-4344-9503-47067F09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28A-8D63-428D-BD35-8F7FDA3B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2A2-BA30-474C-9E98-91A743ED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3DA-EB96-4B1B-BED3-3170C85F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41B-0D7A-4601-91B8-2B2C39A2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285-C06E-41CD-AD8C-758B7FC5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B59C-53C0-4458-B77C-1BAEF277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Proposing Explanations for Fossil Footpr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Vicki H. Metz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Vanderbilt Un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Center for Science Out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Arial"/>
              </a:rPr>
              <a:t>Teaching About Evolution and the Nature of Science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: National Academy of Science (1998) pp. 87-89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362320"/>
            <a:ext cx="8229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Teaching About the Nature of Science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latino Linotype"/>
              </a:rPr>
              <a:t>Fossil Footpr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You are a scientist studying fossils.  You find these footprints in your dig.  All the evidence you have is in the foss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plain what happened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scribe the size and/or nature of these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re all the footprints made at the sam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 many animals were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an you reconstruct a series of events from the fossi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 can you defend your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evidence can you c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2743200" cy="6543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34520" y="-4278600"/>
            <a:ext cx="149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52320" y="457200"/>
            <a:ext cx="5334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plain what happened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scribe the size and/or nature of these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re all the footprints made at the sam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 many animals were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an you reconstruct a series of events from the fossi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 can you defend your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evidence can you c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o you want to dig fur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66680"/>
            <a:ext cx="636300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62751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743200" y="3885840"/>
            <a:ext cx="6019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xplain what happened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an you reconstruct a series of events from the fossi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can you defend your interpre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at evidence can you c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o you want to dig fur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320" y="208080"/>
            <a:ext cx="9010440" cy="64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320" y="208080"/>
            <a:ext cx="9010440" cy="6421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990720"/>
            <a:ext cx="8763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962520"/>
            <a:ext cx="49532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In what directions did the animals mo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Did they change their speed or direc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What might have changed the footprint patt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Was the land level or irregula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Was the soil moist or dry on the day the tracks were m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In what kind of rocks were the prints m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Were the sediments coarse or fine where the tracks were m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What kind of climate existed when these footprints were m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8:25:18Z</dcterms:created>
  <dc:creator>Vicki H. Metzgar</dc:creator>
  <dc:description/>
  <dc:language>en-US</dc:language>
  <cp:lastModifiedBy>aketchum</cp:lastModifiedBy>
  <dcterms:modified xsi:type="dcterms:W3CDTF">2008-06-25T17:37:40Z</dcterms:modified>
  <cp:revision>3</cp:revision>
  <dc:subject/>
  <dc:title>Teaching About the Nature of Science</dc:title>
</cp:coreProperties>
</file>